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4D58-5E99-49BC-AA00-432D64AC9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93CC-5F18-4FAD-86DF-87846041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E72A-AB7F-4A1B-963C-A0FD4FB83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1416-0FD4-46E4-AC67-125621B5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6013-E558-47EA-BB42-AF4E1BF8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D3A5-B1C2-48C2-986C-945EFA8A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1C1C-5202-4FB8-BC7C-70949913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227B-94DF-49EE-9EF1-7687A47B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D2A2-99D8-4A8C-8CA0-0046B124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A211-38EA-4474-A2DD-B6915A00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2C42-FC3F-4E26-86C7-6CEBBFEC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4BB2-FBFB-47DE-A21E-EC9A8BF7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72FE-9CA2-49E5-8CD2-AEFD9F6C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0B53-9B33-4897-B7FB-45A90384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8FB6-0E6C-497F-A793-F49F2E7E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0174-83F6-4488-B5B4-AB09B90D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AC78-F3C2-4F6D-A311-2854B11CD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8783-FFE5-41D3-8CA3-6C8E918E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4C5A-C617-420F-BD35-967763A3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7D73-7EF3-4310-84FA-DDDF389D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8146-6C3C-48B8-B3C7-782C834F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4FF6-1DBE-4021-AA9A-A6DADE55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D30E-BE39-483E-BFC2-CA7313B8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EFF9-E05F-4C1E-81A7-C366EFF1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600200" y="6552720"/>
            <a:ext cx="5867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961F-AFC9-48F8-8C0F-9CA540515BC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8380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7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A4C0-77D2-4D16-8DAD-904B31750CE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uropean Microlight Championship 2006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Paramotor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hozas de Abaj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airfield, León, 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19-26 august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5486400"/>
            <a:ext cx="1828800" cy="113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8571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teorology in augu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80076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6858000" cy="269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19051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648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B584-DA1B-4DBA-890A-A8C0E90EEED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ir Masters 2004, Le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7160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E8E4-9E0D-4022-93A8-5B6DC41DD43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52480" y="13716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DD87-3092-489C-B345-5DC6041C6C6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offici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vent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José Luis Rold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etition Director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Manuel R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puty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Francisco Setié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ternational Jury (pend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tewards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Wolfgang Lintl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Carlos Tri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oni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ichard Meredith-H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6705-0E41-4054-94AB-284B60C9777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vent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José Luis Rold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sional photograp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pi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instr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competiton marsh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a Spanish paramotor championship, league event and the Way of Santiago in para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summer activities for large groups of pleople of all 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motor of air sports through talks, expositons and exhib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387440" cy="17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8AE8-4829-4913-9A09-ADABA975719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mpetition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anuel Rey (“Coco”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eronautical qualif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pilot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instructor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PL (A) licenc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crolight instructor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licence rating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mot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ilot since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PL(A) licence ME and IR rating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1752480" cy="116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24280" y="167652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mpeti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anish Nation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mpio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 medals in FAI cat I microlight compet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veral medals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Spanish championsh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zer of several Spanish competition events: 1 national championship, 1 league event, 4 tou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772400" y="762120"/>
            <a:ext cx="9097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FBE6-AE16-4804-8A16-713FFBA01DF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E03B-F7BD-4191-8BDD-1F88AAFF285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dates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5-26 / August / 200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ining, aircraft inspection, registration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From t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esday, 1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o friday, 18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ing Ceremony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Competition briefing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st Flying Day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day 2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 Friday 2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osing Ceremony, Prize-giving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26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61FF-EBAF-4EFB-8F4B-2BFA12657CF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00200" y="13716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646C-357B-4AC0-BC58-136ED189F6C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s: PF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 trikes: PL1 and PL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5D76-C044-4113-ABE1-0EFE6A43487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2B83-C0CF-4CB8-B33A-C33BF1D8C3A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0476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BF68-B09C-42BC-838B-119C531864F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ntry fe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pilo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co-pilot (naviga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00 € for each Team Le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for assistants and 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will be increased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0 €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y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incl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etition operations (setting, controlling and evaluating the task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 competition materials (maps, task descriptions, control point atlase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use of the airport and free entry to all official ev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mping place for each team with wat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lectri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ferential prices to 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9118-E9D4-4147-BD31-BC2FEB230A2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Insurance require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rd party insurance (not covering passengers)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50.000 € for PF1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0.000 € for PL1 and PL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 trik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ssenger insuranc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50.000 € for PL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A4F2-EC60-4D95-A98B-082EE733627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Championship Venue:</a:t>
            </a:r>
            <a:br>
              <a:rPr sz="3600"/>
            </a:br>
            <a:r>
              <a:rPr b="0" i="1" lang="es-ES" sz="3600" spc="-1" strike="noStrike">
                <a:solidFill>
                  <a:srgbClr val="ffcc66"/>
                </a:solidFill>
                <a:latin typeface="Arial"/>
              </a:rPr>
              <a:t>Chozas de Abajo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 airfiel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319800" cy="52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CA4D-E5B8-4486-B7D0-E0BE771B49E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How to get to the championship venu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0B4F-8B6C-49DF-9B4F-B678B874975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781680" cy="55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AF51-64D5-421A-A9AC-501C8DDDAF7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DB22-A267-4959-9F6F-51A9AEC0F56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Coordinates: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 42° 30,167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W 005° 40,5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Eleva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: 895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Strip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: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18/36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8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: 09/27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3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6D1E-8553-4515-8BB0-FE466F7218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9880" y="2724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CBD7-1B5B-43CD-9C06-4F910028276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34000" cy="55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CDEC-4C16-4A36-A1AE-642615FDDE8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5:12:35Z</dcterms:created>
  <dc:creator>José Luis Esteban</dc:creator>
  <dc:description/>
  <dc:language>en-US</dc:language>
  <cp:lastModifiedBy>FAI</cp:lastModifiedBy>
  <dcterms:modified xsi:type="dcterms:W3CDTF">2005-11-22T10:50:18Z</dcterms:modified>
  <cp:revision>21</cp:revision>
  <dc:subject/>
  <dc:title>Bid for WMC 2007 (Classics)</dc:title>
</cp:coreProperties>
</file>